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C4C9B-B7A3-4847-8E77-E23931B7F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3B672-5E16-4749-9D7A-8267DD266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8D079-F54E-49CA-B3C1-FA6EABE67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6D6C7-6719-43C3-8B5A-CBC5EC343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FB8414-4E6E-4978-8D96-C152F4799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975223-3AD5-48A1-A09A-B441EF232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58326E-BA5B-4313-A3BF-4D13334FD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49B86B-E06F-4CA9-9387-92748946E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571AE2-5BF3-416B-A016-6176F9C8D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D71858-F122-461B-A941-695CFC0EC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3BA08F-9E34-499F-A99E-0CC3E60E9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7FBAA-E9EB-4465-AB15-77C6068A4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25B10A-A51C-41C1-83E9-9FED4AB8C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BEE5C4-EE92-472E-8C79-09A81BC12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A9415A-3E11-4CD7-93C7-2F7E5F172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49D01E-658A-414F-810A-FCDAF7F6A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AF2F33-E9E9-4636-B31F-7CC606F37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46722-BCE6-4255-8705-DD71CB9D7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9E4EB-1E68-4C7C-B51E-477A3EEB6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827FC-8E35-4FE6-B307-275A848D7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8C6F3-58BC-414B-B8E5-88952FC5D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41E6A-D994-4253-A6E2-D7A88969D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33B19-B329-44B3-AF5E-9D1D4619A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349F2-422C-402D-A7EA-44F63A2F7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139DB-F941-4100-B394-55C946F6FE8C}" type="slidenum">
              <a:rPr b="0" lang="zh-TW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86C68-D85E-419E-A37B-C671EDAF4BC3}" type="slidenum">
              <a:rPr b="0" lang="zh-TW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&#23416;&#26399;&#22577;&#21578;&#38988;&#30446;.txt" TargetMode="External"/><Relationship Id="rId3" Type="http://schemas.openxmlformats.org/officeDocument/2006/relationships/hyperlink" Target="&#23416;&#26399;&#22577;&#21578;&#20839;&#23481;&#21450;&#26684;&#24335;.doc" TargetMode="External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cs.ubc.ca/spider/harrison/Java/sorting-demo.html" TargetMode="External"/><Relationship Id="rId3" Type="http://schemas.openxmlformats.org/officeDocument/2006/relationships/hyperlink" Target="http://content.edu.tw/senior/computer/ks_ks/book/algodata/algorithm/algo4.htm" TargetMode="Externa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0" y="10663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1349"/>
              </a:spcBef>
              <a:buClr>
                <a:srgbClr val="ffffff"/>
              </a:buClr>
              <a:buSzPct val="12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ffffff"/>
                </a:solidFill>
                <a:latin typeface="Tahoma"/>
                <a:ea typeface="細明體"/>
              </a:rPr>
              <a:t>分組完成以下之排序演算法學期專題報告：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spcBef>
                <a:spcPts val="1001"/>
              </a:spcBef>
              <a:buClr>
                <a:srgbClr val="ffff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ff"/>
                </a:solidFill>
                <a:latin typeface="Tahoma"/>
              </a:rPr>
              <a:t>繳交時間：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 algn="just">
              <a:spcBef>
                <a:spcPts val="9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 algn="just">
              <a:spcBef>
                <a:spcPts val="901"/>
              </a:spcBef>
              <a:buClr>
                <a:srgbClr val="ffffff"/>
              </a:buClr>
              <a:buSzPct val="12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zh-TW" sz="36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0" lang="zh-TW" sz="3600" spc="-1" strike="noStrike">
                <a:solidFill>
                  <a:srgbClr val="ffffff"/>
                </a:solidFill>
                <a:latin typeface="Tahoma"/>
              </a:rPr>
              <a:t>月  </a:t>
            </a:r>
            <a:r>
              <a:rPr b="0" lang="zh-TW" sz="36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0" lang="zh-TW" sz="3600" spc="-1" strike="noStrike">
                <a:solidFill>
                  <a:srgbClr val="ffffff"/>
                </a:solidFill>
                <a:latin typeface="Tahoma"/>
              </a:rPr>
              <a:t>日以電子郵件方式繳交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 algn="just">
              <a:spcBef>
                <a:spcPts val="9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 algn="just">
              <a:spcBef>
                <a:spcPts val="901"/>
              </a:spcBef>
              <a:buClr>
                <a:srgbClr val="ffffff"/>
              </a:buClr>
              <a:buSzPct val="12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zh-TW" sz="36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0" lang="zh-TW" sz="3600" spc="-1" strike="noStrike">
                <a:solidFill>
                  <a:srgbClr val="ffffff"/>
                </a:solidFill>
                <a:latin typeface="Tahoma"/>
              </a:rPr>
              <a:t>月</a:t>
            </a:r>
            <a:r>
              <a:rPr b="0" lang="zh-TW" sz="3600" spc="-1" strike="noStrike">
                <a:solidFill>
                  <a:srgbClr val="ffffff"/>
                </a:solidFill>
                <a:latin typeface="Tahoma"/>
              </a:rPr>
              <a:t>10</a:t>
            </a:r>
            <a:r>
              <a:rPr b="0" lang="zh-TW" sz="3600" spc="-1" strike="noStrike">
                <a:solidFill>
                  <a:srgbClr val="ffffff"/>
                </a:solidFill>
                <a:latin typeface="Tahoma"/>
              </a:rPr>
              <a:t>日以書面方式繳交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 algn="just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Term Project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0" y="10663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 algn="just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spcBef>
                <a:spcPts val="1001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 u="sng">
                <a:solidFill>
                  <a:srgbClr val="ffcc00"/>
                </a:solidFill>
                <a:uFillTx/>
                <a:latin typeface="Tahoma"/>
                <a:hlinkClick r:id="rId2"/>
              </a:rPr>
              <a:t>學期報告題目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 algn="just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spcBef>
                <a:spcPts val="1001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 u="sng">
                <a:solidFill>
                  <a:srgbClr val="ffcc00"/>
                </a:solidFill>
                <a:uFillTx/>
                <a:latin typeface="Tahoma"/>
                <a:hlinkClick r:id="rId3"/>
              </a:rPr>
              <a:t>學期報告內容及格式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 algn="just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Term Project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0" y="10663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 algn="just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spcBef>
                <a:spcPts val="1001"/>
              </a:spcBef>
              <a:buClr>
                <a:srgbClr val="ffff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ff"/>
                </a:solidFill>
                <a:latin typeface="Tahoma"/>
              </a:rPr>
              <a:t>參考資料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 algn="just">
              <a:spcBef>
                <a:spcPts val="90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 u="sng">
                <a:solidFill>
                  <a:srgbClr val="ffcc00"/>
                </a:solidFill>
                <a:uFillTx/>
                <a:latin typeface="Tahoma"/>
                <a:hlinkClick r:id="rId2"/>
              </a:rPr>
              <a:t>Sorting Algorithm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 algn="just">
              <a:spcBef>
                <a:spcPts val="9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 algn="just">
              <a:spcBef>
                <a:spcPts val="90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 u="sng">
                <a:solidFill>
                  <a:srgbClr val="ffcc00"/>
                </a:solidFill>
                <a:uFillTx/>
                <a:latin typeface="Tahoma"/>
                <a:hlinkClick r:id="rId3"/>
              </a:rPr>
              <a:t>排序演算法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 algn="just">
              <a:spcBef>
                <a:spcPts val="9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 algn="just">
              <a:spcBef>
                <a:spcPts val="9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 algn="just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 algn="just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Term Project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25T21:14:41Z</dcterms:created>
  <dc:creator>江振瑞</dc:creator>
  <dc:description/>
  <dc:language>en-US</dc:language>
  <cp:lastModifiedBy>江振瑞</cp:lastModifiedBy>
  <dcterms:modified xsi:type="dcterms:W3CDTF">2001-12-26T15:44:22Z</dcterms:modified>
  <cp:revision>2</cp:revision>
  <dc:subject/>
  <dc:title>Term Project</dc:title>
</cp:coreProperties>
</file>